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791-33C6-4970-8870-5F001605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DE0-4D88-4DBD-B87B-F21F7B5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514-32E9-4B63-931A-B8B3C7AD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AED-8310-4FC6-BFF9-57C514CB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E8C-A22A-4C7B-87B1-A5362DDB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B4F-137D-4EE2-A63E-90E961D8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99A2-3D60-4CEA-A91D-FA10B9D5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EBE-3192-43F4-96BB-19331300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055-0171-4FDC-BA31-635E701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843E-8170-4405-9EDE-9DBED804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530-489B-4BA0-A59E-4B99C853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258-657B-4599-AB5C-1B979F20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97FB-C03B-4393-A597-88AA8E588C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7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12.jpeg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8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3.jpeg"/><Relationship Id="rId9" Type="http://schemas.openxmlformats.org/officeDocument/2006/relationships/image" Target="../media/image11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9.wmf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14200" y="-785880"/>
            <a:ext cx="10001160" cy="83822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714760" y="53578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r>
              <a:rPr b="1" lang="en-GB" sz="8000" spc="-1" strike="noStrike">
                <a:solidFill>
                  <a:srgbClr val="000000"/>
                </a:solidFill>
                <a:latin typeface="Comic Sans MS"/>
              </a:rPr>
              <a:t>What is the so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1692000" y="4076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870120" cy="1136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232152"/>
          <p:cNvPicPr/>
          <p:nvPr/>
        </p:nvPicPr>
        <p:blipFill>
          <a:blip r:embed="rId4"/>
          <a:stretch/>
        </p:blipFill>
        <p:spPr>
          <a:xfrm>
            <a:off x="3714840" y="4000680"/>
            <a:ext cx="866520" cy="996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MCj02405890000[1]"/>
          <p:cNvPicPr/>
          <p:nvPr/>
        </p:nvPicPr>
        <p:blipFill>
          <a:blip r:embed="rId5"/>
          <a:stretch/>
        </p:blipFill>
        <p:spPr>
          <a:xfrm>
            <a:off x="464328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6929280" y="4143240"/>
            <a:ext cx="7448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7715160" y="4000680"/>
            <a:ext cx="628920" cy="77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8"/>
          <a:stretch/>
        </p:blipFill>
        <p:spPr>
          <a:xfrm>
            <a:off x="8318520" y="40719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70" name="Content Placeholder 3" descr=""/>
          <p:cNvPicPr/>
          <p:nvPr/>
        </p:nvPicPr>
        <p:blipFill>
          <a:blip r:embed="rId9"/>
          <a:stretch/>
        </p:blipFill>
        <p:spPr>
          <a:xfrm>
            <a:off x="578628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85840" y="-785880"/>
            <a:ext cx="10001520" cy="8382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142920" y="58420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3643200" y="2000160"/>
            <a:ext cx="2925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343080" y="30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348000" y="-102960"/>
            <a:ext cx="324000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Le fermier dans son p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dans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237480" y="3378600"/>
            <a:ext cx="3351960" cy="3536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rmier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emm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n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nfa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’enfant prend 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ourrice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ien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hat prend</a:t>
            </a: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la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ur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uris prend </a:t>
            </a:r>
            <a:r>
              <a:rPr b="0" lang="fr-FR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L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fromage est battu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MCj02405890000[1]"/>
          <p:cNvPicPr/>
          <p:nvPr/>
        </p:nvPicPr>
        <p:blipFill>
          <a:blip r:embed="rId1"/>
          <a:stretch/>
        </p:blipFill>
        <p:spPr>
          <a:xfrm>
            <a:off x="1692360" y="393372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232152"/>
          <p:cNvPicPr/>
          <p:nvPr/>
        </p:nvPicPr>
        <p:blipFill>
          <a:blip r:embed="rId2"/>
          <a:stretch/>
        </p:blipFill>
        <p:spPr>
          <a:xfrm>
            <a:off x="6948360" y="2781360"/>
            <a:ext cx="871560" cy="100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7000920" y="564372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2357280" y="5786280"/>
            <a:ext cx="635040" cy="785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5"/>
          <a:stretch/>
        </p:blipFill>
        <p:spPr>
          <a:xfrm>
            <a:off x="1785960" y="4786200"/>
            <a:ext cx="995400" cy="114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Cj03244940000[1]"/>
          <p:cNvPicPr/>
          <p:nvPr/>
        </p:nvPicPr>
        <p:blipFill>
          <a:blip r:embed="rId6"/>
          <a:stretch/>
        </p:blipFill>
        <p:spPr>
          <a:xfrm rot="4551000">
            <a:off x="6694200" y="5748120"/>
            <a:ext cx="384120" cy="40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MCj03244940000[1]"/>
          <p:cNvPicPr/>
          <p:nvPr/>
        </p:nvPicPr>
        <p:blipFill>
          <a:blip r:embed="rId7"/>
          <a:stretch/>
        </p:blipFill>
        <p:spPr>
          <a:xfrm rot="17219400">
            <a:off x="7924680" y="5977800"/>
            <a:ext cx="453960" cy="47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8"/>
          <a:stretch/>
        </p:blipFill>
        <p:spPr>
          <a:xfrm>
            <a:off x="1692360" y="692280"/>
            <a:ext cx="887400" cy="12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9"/>
          <a:stretch/>
        </p:blipFill>
        <p:spPr>
          <a:xfrm>
            <a:off x="1763640" y="2781360"/>
            <a:ext cx="703440" cy="91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MPj01639780000[1]"/>
          <p:cNvPicPr/>
          <p:nvPr/>
        </p:nvPicPr>
        <p:blipFill>
          <a:blip r:embed="rId10">
            <a:lum bright="30000"/>
          </a:blip>
          <a:stretch/>
        </p:blipFill>
        <p:spPr>
          <a:xfrm>
            <a:off x="6877080" y="836640"/>
            <a:ext cx="869760" cy="96516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3" descr=""/>
          <p:cNvPicPr/>
          <p:nvPr/>
        </p:nvPicPr>
        <p:blipFill>
          <a:blip r:embed="rId11"/>
          <a:stretch/>
        </p:blipFill>
        <p:spPr>
          <a:xfrm>
            <a:off x="6858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7"/>
          <a:stretch/>
        </p:blipFill>
        <p:spPr>
          <a:xfrm>
            <a:off x="5724360" y="414972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8"/>
          <a:stretch/>
        </p:blipFill>
        <p:spPr>
          <a:xfrm>
            <a:off x="6786720" y="1571760"/>
            <a:ext cx="825480" cy="998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MPj04227320000[1]"/>
          <p:cNvPicPr/>
          <p:nvPr/>
        </p:nvPicPr>
        <p:blipFill>
          <a:blip r:embed="rId9"/>
          <a:stretch/>
        </p:blipFill>
        <p:spPr>
          <a:xfrm>
            <a:off x="8001000" y="1571760"/>
            <a:ext cx="792000" cy="93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MCj03244940000[1]"/>
          <p:cNvPicPr/>
          <p:nvPr/>
        </p:nvPicPr>
        <p:blipFill>
          <a:blip r:embed="rId10"/>
          <a:stretch/>
        </p:blipFill>
        <p:spPr>
          <a:xfrm rot="3860400">
            <a:off x="7252920" y="413208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"/>
          <p:cNvPicPr/>
          <p:nvPr/>
        </p:nvPicPr>
        <p:blipFill>
          <a:blip r:embed="rId11"/>
          <a:stretch/>
        </p:blipFill>
        <p:spPr>
          <a:xfrm>
            <a:off x="5286240" y="16430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14200" y="1428840"/>
          <a:ext cx="1408320" cy="2360520"/>
        </p:xfrm>
        <a:graphic>
          <a:graphicData uri="http://schemas.openxmlformats.org/drawingml/2006/table">
            <a:tbl>
              <a:tblPr/>
              <a:tblGrid>
                <a:gridCol w="1408320"/>
              </a:tblGrid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22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357120" y="1713960"/>
            <a:ext cx="1154160" cy="17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3929040" y="1928880"/>
          <a:ext cx="928800" cy="165564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65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4" name="Picture 5" descr="j0232152"/>
          <p:cNvPicPr/>
          <p:nvPr/>
        </p:nvPicPr>
        <p:blipFill>
          <a:blip r:embed="rId2"/>
          <a:stretch/>
        </p:blipFill>
        <p:spPr>
          <a:xfrm>
            <a:off x="3929040" y="2214720"/>
            <a:ext cx="86688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643040" y="1714680"/>
          <a:ext cx="1143000" cy="207468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20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1714680" y="1928880"/>
            <a:ext cx="98892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8317080" y="2565360"/>
          <a:ext cx="455400" cy="806400"/>
        </p:xfrm>
        <a:graphic>
          <a:graphicData uri="http://schemas.openxmlformats.org/drawingml/2006/table">
            <a:tbl>
              <a:tblPr/>
              <a:tblGrid>
                <a:gridCol w="45540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8290080" y="2708280"/>
            <a:ext cx="469800" cy="56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234936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5"/>
          <a:stretch/>
        </p:blipFill>
        <p:spPr>
          <a:xfrm>
            <a:off x="6948360" y="2492280"/>
            <a:ext cx="74484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857680" y="1785960"/>
          <a:ext cx="1000080" cy="1871640"/>
        </p:xfrm>
        <a:graphic>
          <a:graphicData uri="http://schemas.openxmlformats.org/drawingml/2006/table">
            <a:tbl>
              <a:tblPr/>
              <a:tblGrid>
                <a:gridCol w="10000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" descr=""/>
          <p:cNvPicPr/>
          <p:nvPr/>
        </p:nvPicPr>
        <p:blipFill>
          <a:blip r:embed="rId6"/>
          <a:stretch/>
        </p:blipFill>
        <p:spPr>
          <a:xfrm>
            <a:off x="2857680" y="2071800"/>
            <a:ext cx="86976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929120" y="2071800"/>
          <a:ext cx="928800" cy="1444680"/>
        </p:xfrm>
        <a:graphic>
          <a:graphicData uri="http://schemas.openxmlformats.org/drawingml/2006/table">
            <a:tbl>
              <a:tblPr/>
              <a:tblGrid>
                <a:gridCol w="92880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4" descr="MCj02405890000[1]"/>
          <p:cNvPicPr/>
          <p:nvPr/>
        </p:nvPicPr>
        <p:blipFill>
          <a:blip r:embed="rId7"/>
          <a:stretch/>
        </p:blipFill>
        <p:spPr>
          <a:xfrm>
            <a:off x="5000760" y="2214720"/>
            <a:ext cx="714240" cy="107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740720" y="2492280"/>
          <a:ext cx="527040" cy="86544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16" name="Picture 2" descr=""/>
          <p:cNvPicPr/>
          <p:nvPr/>
        </p:nvPicPr>
        <p:blipFill>
          <a:blip r:embed="rId8"/>
          <a:stretch/>
        </p:blipFill>
        <p:spPr>
          <a:xfrm>
            <a:off x="7740720" y="256536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4"/>
          <p:cNvSpPr/>
          <p:nvPr/>
        </p:nvSpPr>
        <p:spPr>
          <a:xfrm>
            <a:off x="179280" y="333360"/>
            <a:ext cx="92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éparez les images en deux grou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428760" y="46432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ut the pictures into two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929200" y="2286000"/>
          <a:ext cx="857520" cy="1165320"/>
        </p:xfrm>
        <a:graphic>
          <a:graphicData uri="http://schemas.openxmlformats.org/drawingml/2006/table">
            <a:tbl>
              <a:tblPr/>
              <a:tblGrid>
                <a:gridCol w="857520"/>
              </a:tblGrid>
              <a:tr h="116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0" name="Content Placeholder 3" descr=""/>
          <p:cNvPicPr/>
          <p:nvPr/>
        </p:nvPicPr>
        <p:blipFill>
          <a:blip r:embed="rId9"/>
          <a:stretch/>
        </p:blipFill>
        <p:spPr>
          <a:xfrm>
            <a:off x="6000840" y="2500200"/>
            <a:ext cx="6429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13000"/>
          <a:ext cx="1657080" cy="2447640"/>
        </p:xfrm>
        <a:graphic>
          <a:graphicData uri="http://schemas.openxmlformats.org/drawingml/2006/table">
            <a:tbl>
              <a:tblPr/>
              <a:tblGrid>
                <a:gridCol w="165708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8"/>
          <p:cNvSpPr/>
          <p:nvPr/>
        </p:nvSpPr>
        <p:spPr>
          <a:xfrm>
            <a:off x="826920" y="191628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195640" y="306864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461520" y="1696320"/>
            <a:ext cx="1297080" cy="194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14200" y="4286160"/>
          <a:ext cx="1071720" cy="1584360"/>
        </p:xfrm>
        <a:graphic>
          <a:graphicData uri="http://schemas.openxmlformats.org/drawingml/2006/table">
            <a:tbl>
              <a:tblPr/>
              <a:tblGrid>
                <a:gridCol w="1071720"/>
              </a:tblGrid>
              <a:tr h="1584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6" name="Picture 5" descr="j0232152"/>
          <p:cNvPicPr/>
          <p:nvPr/>
        </p:nvPicPr>
        <p:blipFill>
          <a:blip r:embed="rId2"/>
          <a:stretch/>
        </p:blipFill>
        <p:spPr>
          <a:xfrm>
            <a:off x="285840" y="4572000"/>
            <a:ext cx="866520" cy="99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195640" y="1700280"/>
          <a:ext cx="1392120" cy="2160360"/>
        </p:xfrm>
        <a:graphic>
          <a:graphicData uri="http://schemas.openxmlformats.org/drawingml/2006/table">
            <a:tbl>
              <a:tblPr/>
              <a:tblGrid>
                <a:gridCol w="139212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28" name="Picture 3" descr=""/>
          <p:cNvPicPr/>
          <p:nvPr/>
        </p:nvPicPr>
        <p:blipFill>
          <a:blip r:embed="rId3"/>
          <a:stretch/>
        </p:blipFill>
        <p:spPr>
          <a:xfrm>
            <a:off x="2268360" y="2060640"/>
            <a:ext cx="989280" cy="14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429000" y="4643280"/>
          <a:ext cx="455760" cy="806760"/>
        </p:xfrm>
        <a:graphic>
          <a:graphicData uri="http://schemas.openxmlformats.org/drawingml/2006/table">
            <a:tbl>
              <a:tblPr/>
              <a:tblGrid>
                <a:gridCol w="455760"/>
              </a:tblGrid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0" name="Picture 2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469800" cy="56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2500200" y="4572000"/>
          <a:ext cx="816120" cy="1095480"/>
        </p:xfrm>
        <a:graphic>
          <a:graphicData uri="http://schemas.openxmlformats.org/drawingml/2006/table">
            <a:tbl>
              <a:tblPr/>
              <a:tblGrid>
                <a:gridCol w="81612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2500200" y="4714920"/>
            <a:ext cx="744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5148360" y="1773360"/>
          <a:ext cx="1174680" cy="1871640"/>
        </p:xfrm>
        <a:graphic>
          <a:graphicData uri="http://schemas.openxmlformats.org/drawingml/2006/table">
            <a:tbl>
              <a:tblPr/>
              <a:tblGrid>
                <a:gridCol w="117468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6"/>
          <a:stretch/>
        </p:blipFill>
        <p:spPr>
          <a:xfrm>
            <a:off x="5292720" y="2205000"/>
            <a:ext cx="870120" cy="113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588000" y="1916280"/>
          <a:ext cx="1081080" cy="1384200"/>
        </p:xfrm>
        <a:graphic>
          <a:graphicData uri="http://schemas.openxmlformats.org/drawingml/2006/table">
            <a:tbl>
              <a:tblPr/>
              <a:tblGrid>
                <a:gridCol w="1081080"/>
              </a:tblGrid>
              <a:tr h="13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MCj02405890000[1]"/>
          <p:cNvPicPr/>
          <p:nvPr/>
        </p:nvPicPr>
        <p:blipFill>
          <a:blip r:embed="rId7"/>
          <a:stretch/>
        </p:blipFill>
        <p:spPr>
          <a:xfrm>
            <a:off x="6659640" y="2060640"/>
            <a:ext cx="95256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8028000" y="2276640"/>
          <a:ext cx="527040" cy="865080"/>
        </p:xfrm>
        <a:graphic>
          <a:graphicData uri="http://schemas.openxmlformats.org/drawingml/2006/table">
            <a:tbl>
              <a:tblPr/>
              <a:tblGrid>
                <a:gridCol w="52704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138" name="Picture 2" descr=""/>
          <p:cNvPicPr/>
          <p:nvPr/>
        </p:nvPicPr>
        <p:blipFill>
          <a:blip r:embed="rId8"/>
          <a:stretch/>
        </p:blipFill>
        <p:spPr>
          <a:xfrm>
            <a:off x="8028000" y="2421000"/>
            <a:ext cx="571320" cy="706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1"/>
          <p:cNvSpPr/>
          <p:nvPr/>
        </p:nvSpPr>
        <p:spPr>
          <a:xfrm>
            <a:off x="1476360" y="26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GB" sz="6000" spc="-1" strike="noStrike">
                <a:solidFill>
                  <a:srgbClr val="0000ff"/>
                </a:solidFill>
                <a:latin typeface="Comic Sans MS"/>
              </a:rPr>
              <a:t>le”               </a:t>
            </a:r>
            <a:r>
              <a:rPr b="0" lang="en-GB" sz="6000" spc="-1" strike="noStrike">
                <a:solidFill>
                  <a:srgbClr val="ff0000"/>
                </a:solidFill>
                <a:latin typeface="Comic Sans MS"/>
              </a:rPr>
              <a:t>“la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4284720" y="400536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le / la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164360" y="4005360"/>
            <a:ext cx="14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th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5"/>
          <p:cNvSpPr/>
          <p:nvPr/>
        </p:nvSpPr>
        <p:spPr>
          <a:xfrm>
            <a:off x="4572000" y="48164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le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867280" y="4816440"/>
            <a:ext cx="302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ff"/>
                </a:solidFill>
                <a:latin typeface="Comic Sans MS"/>
                <a:ea typeface="Arial"/>
              </a:rPr>
              <a:t>mascul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4572000" y="5734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la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5867280" y="573408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omic Sans MS"/>
                <a:ea typeface="Arial"/>
              </a:rPr>
              <a:t>femin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28840" y="4500720"/>
          <a:ext cx="857160" cy="1164960"/>
        </p:xfrm>
        <a:graphic>
          <a:graphicData uri="http://schemas.openxmlformats.org/drawingml/2006/table">
            <a:tbl>
              <a:tblPr/>
              <a:tblGrid>
                <a:gridCol w="857160"/>
              </a:tblGrid>
              <a:tr h="116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ff"/>
                      </a:solidFill>
                    </a:lnL>
                    <a:lnR w="9360">
                      <a:solidFill>
                        <a:srgbClr val="0000ff"/>
                      </a:solidFill>
                    </a:lnR>
                    <a:lnT w="9360">
                      <a:solidFill>
                        <a:srgbClr val="0000ff"/>
                      </a:solidFill>
                    </a:lnT>
                    <a:lnB w="93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pic>
        <p:nvPicPr>
          <p:cNvPr id="147" name="Content Placeholder 3" descr=""/>
          <p:cNvPicPr/>
          <p:nvPr/>
        </p:nvPicPr>
        <p:blipFill>
          <a:blip r:embed="rId9"/>
          <a:stretch/>
        </p:blipFill>
        <p:spPr>
          <a:xfrm>
            <a:off x="1571760" y="4786200"/>
            <a:ext cx="6379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MPj04227320000[1]"/>
          <p:cNvPicPr/>
          <p:nvPr/>
        </p:nvPicPr>
        <p:blipFill>
          <a:blip r:embed="rId1"/>
          <a:stretch/>
        </p:blipFill>
        <p:spPr>
          <a:xfrm>
            <a:off x="2771640" y="333360"/>
            <a:ext cx="3595680" cy="424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419640" y="494172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pr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MCj03244940000[1]"/>
          <p:cNvPicPr/>
          <p:nvPr/>
        </p:nvPicPr>
        <p:blipFill>
          <a:blip r:embed="rId1"/>
          <a:stretch/>
        </p:blipFill>
        <p:spPr>
          <a:xfrm rot="3860400">
            <a:off x="3258000" y="1102320"/>
            <a:ext cx="3327480" cy="3484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492360" y="5300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batt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7"/>
          <a:stretch/>
        </p:blipFill>
        <p:spPr>
          <a:xfrm>
            <a:off x="635796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1"/>
          <p:cNvSpPr/>
          <p:nvPr/>
        </p:nvSpPr>
        <p:spPr>
          <a:xfrm>
            <a:off x="1714680" y="357120"/>
            <a:ext cx="70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Qu’est-ce qui man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Content Placeholder 3" descr=""/>
          <p:cNvPicPr/>
          <p:nvPr/>
        </p:nvPicPr>
        <p:blipFill>
          <a:blip r:embed="rId11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MCj02405890000[1]"/>
          <p:cNvPicPr/>
          <p:nvPr/>
        </p:nvPicPr>
        <p:blipFill>
          <a:blip r:embed="rId4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Content Placeholder 3" descr=""/>
          <p:cNvPicPr/>
          <p:nvPr/>
        </p:nvPicPr>
        <p:blipFill>
          <a:blip r:embed="rId10"/>
          <a:stretch/>
        </p:blipFill>
        <p:spPr>
          <a:xfrm>
            <a:off x="5357880" y="407196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857680" y="500040"/>
            <a:ext cx="3205080" cy="454968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5357880"/>
            <a:ext cx="41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3"/>
          <a:stretch/>
        </p:blipFill>
        <p:spPr>
          <a:xfrm>
            <a:off x="1928880" y="3929040"/>
            <a:ext cx="869760" cy="1136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6"/>
          <a:stretch/>
        </p:blipFill>
        <p:spPr>
          <a:xfrm>
            <a:off x="657216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60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14324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MCj02405890000[1]"/>
          <p:cNvPicPr/>
          <p:nvPr/>
        </p:nvPicPr>
        <p:blipFill>
          <a:blip r:embed="rId5"/>
          <a:stretch/>
        </p:blipFill>
        <p:spPr>
          <a:xfrm>
            <a:off x="357192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"/>
          <p:cNvPicPr/>
          <p:nvPr/>
        </p:nvPicPr>
        <p:blipFill>
          <a:blip r:embed="rId7"/>
          <a:stretch/>
        </p:blipFill>
        <p:spPr>
          <a:xfrm>
            <a:off x="6929280" y="4143240"/>
            <a:ext cx="628920" cy="777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193" name="Content Placeholder 3" descr=""/>
          <p:cNvPicPr/>
          <p:nvPr/>
        </p:nvPicPr>
        <p:blipFill>
          <a:blip r:embed="rId10"/>
          <a:stretch/>
        </p:blipFill>
        <p:spPr>
          <a:xfrm>
            <a:off x="5214960" y="414324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2000160" y="3929040"/>
            <a:ext cx="870120" cy="113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MCj02405890000[1]"/>
          <p:cNvPicPr/>
          <p:nvPr/>
        </p:nvPicPr>
        <p:blipFill>
          <a:blip r:embed="rId4"/>
          <a:stretch/>
        </p:blipFill>
        <p:spPr>
          <a:xfrm>
            <a:off x="3357720" y="3929040"/>
            <a:ext cx="952200" cy="1076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6"/>
          <a:stretch/>
        </p:blipFill>
        <p:spPr>
          <a:xfrm>
            <a:off x="685800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994520" y="411120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21488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400068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637040" y="4182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13" name="Content Placeholder 3" descr=""/>
          <p:cNvPicPr/>
          <p:nvPr/>
        </p:nvPicPr>
        <p:blipFill>
          <a:blip r:embed="rId10"/>
          <a:stretch/>
        </p:blipFill>
        <p:spPr>
          <a:xfrm>
            <a:off x="4572000" y="4214880"/>
            <a:ext cx="9237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j0232152"/>
          <p:cNvPicPr/>
          <p:nvPr/>
        </p:nvPicPr>
        <p:blipFill>
          <a:blip r:embed="rId3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MCj02405890000[1]"/>
          <p:cNvPicPr/>
          <p:nvPr/>
        </p:nvPicPr>
        <p:blipFill>
          <a:blip r:embed="rId4"/>
          <a:stretch/>
        </p:blipFill>
        <p:spPr>
          <a:xfrm>
            <a:off x="37148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5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6"/>
          <a:stretch/>
        </p:blipFill>
        <p:spPr>
          <a:xfrm>
            <a:off x="6715080" y="407196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7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MPj04227320000[1]"/>
          <p:cNvPicPr/>
          <p:nvPr/>
        </p:nvPicPr>
        <p:blipFill>
          <a:blip r:embed="rId8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MCj03244940000[1]"/>
          <p:cNvPicPr/>
          <p:nvPr/>
        </p:nvPicPr>
        <p:blipFill>
          <a:blip r:embed="rId9"/>
          <a:stretch/>
        </p:blipFill>
        <p:spPr>
          <a:xfrm rot="3860400">
            <a:off x="7851240" y="4039920"/>
            <a:ext cx="72720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Content Placeholder 3" descr=""/>
          <p:cNvPicPr/>
          <p:nvPr/>
        </p:nvPicPr>
        <p:blipFill>
          <a:blip r:embed="rId10"/>
          <a:stretch/>
        </p:blipFill>
        <p:spPr>
          <a:xfrm>
            <a:off x="5286240" y="4000680"/>
            <a:ext cx="924120" cy="82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MCj02405890000[1]"/>
          <p:cNvPicPr/>
          <p:nvPr/>
        </p:nvPicPr>
        <p:blipFill>
          <a:blip r:embed="rId5"/>
          <a:stretch/>
        </p:blipFill>
        <p:spPr>
          <a:xfrm>
            <a:off x="3429000" y="392904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7"/>
          <a:stretch/>
        </p:blipFill>
        <p:spPr>
          <a:xfrm>
            <a:off x="6215040" y="414324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33" name="Content Placeholder 3" descr=""/>
          <p:cNvPicPr/>
          <p:nvPr/>
        </p:nvPicPr>
        <p:blipFill>
          <a:blip r:embed="rId10"/>
          <a:stretch/>
        </p:blipFill>
        <p:spPr>
          <a:xfrm>
            <a:off x="4786200" y="407196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684360" y="3789360"/>
            <a:ext cx="988920" cy="14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MPj01639780000[1]"/>
          <p:cNvPicPr/>
          <p:nvPr/>
        </p:nvPicPr>
        <p:blipFill>
          <a:blip r:embed="rId2">
            <a:lum bright="30000"/>
          </a:blip>
          <a:stretch/>
        </p:blipFill>
        <p:spPr>
          <a:xfrm flipH="1" rot="1200">
            <a:off x="684000" y="1628280"/>
            <a:ext cx="1009440" cy="84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3"/>
          <a:stretch/>
        </p:blipFill>
        <p:spPr>
          <a:xfrm>
            <a:off x="2340000" y="3933720"/>
            <a:ext cx="869760" cy="113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j0232152"/>
          <p:cNvPicPr/>
          <p:nvPr/>
        </p:nvPicPr>
        <p:blipFill>
          <a:blip r:embed="rId4"/>
          <a:stretch/>
        </p:blipFill>
        <p:spPr>
          <a:xfrm>
            <a:off x="2268360" y="1557360"/>
            <a:ext cx="866880" cy="996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MCj02405890000[1]"/>
          <p:cNvPicPr/>
          <p:nvPr/>
        </p:nvPicPr>
        <p:blipFill>
          <a:blip r:embed="rId5"/>
          <a:stretch/>
        </p:blipFill>
        <p:spPr>
          <a:xfrm>
            <a:off x="3995640" y="400536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6"/>
          <a:stretch/>
        </p:blipFill>
        <p:spPr>
          <a:xfrm>
            <a:off x="4067280" y="155736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7"/>
          <a:stretch/>
        </p:blipFill>
        <p:spPr>
          <a:xfrm>
            <a:off x="6715080" y="4214880"/>
            <a:ext cx="628560" cy="777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8"/>
          <a:stretch/>
        </p:blipFill>
        <p:spPr>
          <a:xfrm>
            <a:off x="5651640" y="155736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MPj04227320000[1]"/>
          <p:cNvPicPr/>
          <p:nvPr/>
        </p:nvPicPr>
        <p:blipFill>
          <a:blip r:embed="rId9"/>
          <a:stretch/>
        </p:blipFill>
        <p:spPr>
          <a:xfrm>
            <a:off x="7236000" y="1557360"/>
            <a:ext cx="792000" cy="93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MCj03244940000[1]"/>
          <p:cNvPicPr/>
          <p:nvPr/>
        </p:nvPicPr>
        <p:blipFill>
          <a:blip r:embed="rId10"/>
          <a:stretch/>
        </p:blipFill>
        <p:spPr>
          <a:xfrm rot="3860400">
            <a:off x="7851240" y="4182840"/>
            <a:ext cx="727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MPj01639780000[1]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714240" y="-1523880"/>
            <a:ext cx="10001160" cy="838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2000160" y="1357200"/>
            <a:ext cx="1847880" cy="2622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3"/>
          <a:stretch/>
        </p:blipFill>
        <p:spPr>
          <a:xfrm>
            <a:off x="4929120" y="1428840"/>
            <a:ext cx="1967040" cy="25718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j0232152"/>
          <p:cNvPicPr/>
          <p:nvPr/>
        </p:nvPicPr>
        <p:blipFill>
          <a:blip r:embed="rId4"/>
          <a:stretch/>
        </p:blipFill>
        <p:spPr>
          <a:xfrm>
            <a:off x="-1214280" y="4714920"/>
            <a:ext cx="1257120" cy="1447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MCj02405890000[1]"/>
          <p:cNvPicPr/>
          <p:nvPr/>
        </p:nvPicPr>
        <p:blipFill>
          <a:blip r:embed="rId5"/>
          <a:stretch/>
        </p:blipFill>
        <p:spPr>
          <a:xfrm>
            <a:off x="928800" y="2143080"/>
            <a:ext cx="2031840" cy="2295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6"/>
          <a:stretch/>
        </p:blipFill>
        <p:spPr>
          <a:xfrm flipH="1">
            <a:off x="214200" y="-2428920"/>
            <a:ext cx="744480" cy="858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"/>
          <p:cNvPicPr/>
          <p:nvPr/>
        </p:nvPicPr>
        <p:blipFill>
          <a:blip r:embed="rId7"/>
          <a:stretch/>
        </p:blipFill>
        <p:spPr>
          <a:xfrm>
            <a:off x="-1571760" y="4000680"/>
            <a:ext cx="744840" cy="920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3244940000[1]"/>
          <p:cNvPicPr/>
          <p:nvPr/>
        </p:nvPicPr>
        <p:blipFill>
          <a:blip r:embed="rId8"/>
          <a:stretch/>
        </p:blipFill>
        <p:spPr>
          <a:xfrm rot="7179000">
            <a:off x="-1638360" y="123840"/>
            <a:ext cx="727200" cy="761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j03244940000[1]"/>
          <p:cNvPicPr/>
          <p:nvPr/>
        </p:nvPicPr>
        <p:blipFill>
          <a:blip r:embed="rId9"/>
          <a:stretch/>
        </p:blipFill>
        <p:spPr>
          <a:xfrm flipH="1" rot="17845800">
            <a:off x="9706680" y="5775840"/>
            <a:ext cx="760320" cy="762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MCj03244940000[1]"/>
          <p:cNvPicPr/>
          <p:nvPr/>
        </p:nvPicPr>
        <p:blipFill>
          <a:blip r:embed="rId10"/>
          <a:stretch/>
        </p:blipFill>
        <p:spPr>
          <a:xfrm rot="3860400">
            <a:off x="-1792080" y="6253920"/>
            <a:ext cx="726840" cy="762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11"/>
          <a:stretch/>
        </p:blipFill>
        <p:spPr>
          <a:xfrm>
            <a:off x="4429080" y="4214880"/>
            <a:ext cx="825480" cy="998640"/>
          </a:xfrm>
          <a:prstGeom prst="rect">
            <a:avLst/>
          </a:prstGeom>
          <a:ln w="0">
            <a:noFill/>
          </a:ln>
        </p:spPr>
      </p:pic>
      <p:pic>
        <p:nvPicPr>
          <p:cNvPr id="257" name="Content Placeholder 3" descr=""/>
          <p:cNvPicPr/>
          <p:nvPr/>
        </p:nvPicPr>
        <p:blipFill>
          <a:blip r:embed="rId12"/>
          <a:stretch/>
        </p:blipFill>
        <p:spPr>
          <a:xfrm flipH="1" rot="172800">
            <a:off x="9664200" y="4451400"/>
            <a:ext cx="924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31 0.04375 C 0.07986 0.01273 0.08177 -0.01389 0.10226 -0.03264 C 0.10747 -0.0375 0.1132 -0.0419 0.1184 -0.04653 C 0.12413 -0.05139 0.13611 -0.05833 0.13611 -0.0581 C 0.1434 -0.05694 0.15087 -0.05648 0.15834 -0.0544 C 0.16354 -0.05278 0.16945 -0.03958 0.17292 -0.03472 C 0.175 -0.02199 0.17917 -0.01412 0.18455 -0.00324 C 0.18594 -0.00023 0.18611 0.00347 0.1875 0.00648 C 0.19705 0.02616 0.21302 0.05139 0.22726 0.06528 C 0.26233 0.05926 0.26493 0.0662 0.28021 0.03194 C 0.28299 0.01204 0.2816 -0.0088 0.28455 -0.0287 C 0.28611 -0.03889 0.29757 -0.04282 0.30226 -0.04653 C 0.30677 -0.05023 0.31024 -0.05671 0.31545 -0.05833 C 0.32882 -0.0625 0.32344 -0.06018 0.3316 -0.06412 C 0.34254 -0.06319 0.3559 -0.06806 0.36406 -0.05833 C 0.36771 -0.05393 0.37292 -0.04259 0.37292 -0.04236 C 0.37639 -0.02731 0.37761 -0.01597 0.38316 -0.00139 C 0.3849 0.00347 0.38455 0.00949 0.38611 0.01435 C 0.39236 0.0338 0.41094 0.04653 0.42587 0.04954 C 0.44965 0.04236 0.46215 0.04352 0.47587 0.01829 C 0.4816 0.00787 0.48611 -0.00162 0.49045 -0.01319 C 0.49149 -0.01574 0.4934 -0.02106 0.4934 -0.02083 C 0.49618 -0.03889 0.50087 -0.05556 0.50226 -0.07384 C 0.50226 -0.07454 0.50347 -0.10324 0.50521 -0.10926 C 0.50608 -0.11227 0.50834 -0.11435 0.50955 -0.11713 C 0.51979 -0.14074 0.53143 -0.16458 0.55226 -0.17199 C 0.56007 -0.1706 0.56875 -0.17268 0.57587 -0.16806 C 0.57604 -0.16782 0.58334 -0.14606 0.58611 -0.14051 C 0.59948 -0.08727 0.59045 -0.10926 0.59045 0.00069 E">
                                      <p:cBhvr>
                                        <p:cTn id="3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2844 C -0.09601 0.02982 -0.13195 0.02705 -0.17223 0.04415 C -0.19549 0.05409 -0.21146 0.07236 -0.23299 0.08576 C -0.2625 0.10403 -0.29271 0.12344 -0.32518 0.1276 C -0.32848 0.12853 -0.33195 0.1283 -0.3349 0.13015 C -0.33785 0.132 -0.33941 0.13731 -0.34271 0.13801 C -0.35695 0.14101 -0.37153 0.13986 -0.38594 0.14078 C -0.38629 0.14101 -0.40469 0.15072 -0.40747 0.15372 C -0.42257 0.1706 -0.3915 0.15303 -0.42518 0.17199 C -0.45313 0.18771 -0.48212 0.19926 -0.51146 0.20851 C -0.53785 0.20689 -0.5533 0.20782 -0.57605 0.19811 C -0.58907 0.19903 -0.60226 0.19857 -0.61528 0.20065 C -0.61945 0.20134 -0.62292 0.2055 -0.62709 0.20597 C -0.63629 0.20689 -0.64532 0.20759 -0.65452 0.20851 C -0.65782 0.20943 -0.66146 0.2092 -0.66441 0.21128 C -0.66684 0.2129 -0.66789 0.21683 -0.67014 0.21891 C -0.67188 0.22053 -0.67414 0.22076 -0.67605 0.22169 C -0.69167 0.22076 -0.70747 0.22122 -0.72309 0.21891 C -0.73178 0.21753 -0.7408 0.19279 -0.7408 0.19279 C -0.74462 0.15557 -0.74393 0.11697 -0.75053 0.08068 C -0.75348 0.02612 -0.75539 -0.02612 -0.75053 -0.08113 C -0.75191 -0.09431 -0.75174 -0.10772 -0.75452 -0.12043 C -0.75521 -0.12344 -0.75869 -0.12344 -0.76042 -0.12552 C -0.76216 -0.12783 -0.76268 -0.13106 -0.76441 -0.13338 C -0.76841 -0.13869 -0.77344 -0.14008 -0.77813 -0.14378 C -0.78021 -0.1454 -0.78386 -0.1491 -0.78386 -0.1491 E">
                                      <p:cBhvr>
                                        <p:cTn id="51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6274 C 0.01736 0.17709 0.01615 0.19306 0.01042 0.20672 C 0.00764 0.22315 -0.00156 0.23473 -0.00746 0.24885 C -0.01076 0.25625 -0.01198 0.26852 -0.01423 0.27593 C -0.01562 0.29237 -0.01823 0.3088 -0.02153 0.32431 C -0.02361 0.3463 -0.03264 0.37338 -0.04166 0.39237 C -0.04392 0.4088 -0.04496 0.41181 -0.05104 0.42385 C -0.05451 0.44167 -0.05833 0.45926 -0.06128 0.47593 C -0.0625 0.50093 -0.06632 0.52431 -0.06944 0.547 C -0.06979 0.57153 -0.06979 0.59977 -0.07448 0.622 C -0.07187 0.65741 -0.07673 0.65209 -0.05833 0.65973 C -0.05 0.65788 -0.04114 0.65741 -0.03229 0.65625 C -0.0184 0.65301 -0.00156 0.61621 0.00886 0.60278 C 0.01129 0.59121 0.02552 0.58473 0.03316 0.57686 C 0.04271 0.56899 0.05139 0.55741 0.06163 0.55139 C 0.06806 0.54746 0.07535 0.54375 0.08177 0.53913 C 0.08802 0.53241 0.09219 0.53125 0.09931 0.52755 C 0.10903 0.5213 0.11788 0.51366 0.12778 0.5088 C 0.13334 0.50186 0.13924 0.50163 0.14549 0.49862 C 0.15608 0.48936 0.16511 0.4875 0.17743 0.48241 C 0.19219 0.48403 0.18733 0.4801 0.19375 0.4875 E">
                                      <p:cBhvr>
                                        <p:cTn id="55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88 0.00695 L 0.09618 0.13889 L 0.11875 0.00695 L 0.14254 0.13889 L 0.16667 0.00695 L 0.18907 0.13889 L 0.21302 0.00695 L 0.23577 0.13889 L 0.2599 0.00695 L 0.28386 0.13889 L 0.3066 0.00695 L 0.33056 0.13889 L 0.35296 0.00695 L 0.37709 0.13889 L 0.40105 0.00695 L 0.42379 0.13889 L 0.44792 0.00695 E">
                                      <p:cBhvr>
                                        <p:cTn id="5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7 -0.11458 C 0.59861 -0.1375 0.61094 -0.1581 0.62413 -0.17523 C 0.62795 -0.18518 0.6316 -0.18935 0.63733 -0.19699 C 0.63854 -0.19861 0.64028 -0.20509 0.64028 -0.20278 C 0.64028 -0.19421 0.63177 -0.18541 0.62847 -0.17916 C 0.62726 -0.17685 0.62691 -0.17361 0.62552 -0.17153 C 0.62118 -0.16481 0.61389 -0.16041 0.60938 -0.1537 C 0.58542 -0.11782 0.61285 -0.15393 0.59757 -0.13426 C 0.59601 -0.12731 0.5934 -0.12129 0.59167 -0.11458 C 0.59444 -0.13611 0.59097 -0.12014 0.60503 -0.14583 C 0.61285 -0.16018 0.61875 -0.17523 0.63003 -0.18518 C 0.63785 -0.20046 0.62691 -0.1831 0.62552 -0.18125 C 0.62378 -0.17893 0.62153 -0.17731 0.61962 -0.17523 C 0.61181 -0.15509 0.6217 -0.17615 0.61233 -0.16551 C 0.61042 -0.16342 0.60972 -0.15995 0.60799 -0.15764 C 0.60434 -0.15278 0.59983 -0.14884 0.59618 -0.14398 C 0.59566 -0.14213 0.59358 -0.1368 0.59462 -0.13819 C 0.59618 -0.14028 0.59635 -0.14352 0.59757 -0.14583 C 0.60608 -0.16203 0.61719 -0.18588 0.63003 -0.19699 C 0.62378 -0.18472 0.61597 -0.17546 0.60938 -0.16365 C 0.60556 -0.15694 0.60399 -0.15023 0.59913 -0.14398 C 0.59757 -0.14213 0.59583 -0.14028 0.59462 -0.13819 C 0.59236 -0.13449 0.58872 -0.12639 0.58872 -0.12615 C 0.59149 -0.15347 0.59913 -0.15717 0.61094 -0.17731 C 0.61823 -0.18981 0.61389 -0.1868 0.62118 -0.1949 C 0.62257 -0.19629 0.62639 -0.20092 0.62552 -0.19884 C 0.61736 -0.18125 0.60538 -0.16643 0.59618 -0.14977 C 0.59375 -0.14074 0.58733 -0.13426 0.58733 -0.1243 E">
                                      <p:cBhvr>
                                        <p:cTn id="6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146 -0.15162 C -0.46928 -0.15417 -0.47761 -0.15556 -0.48507 -0.15949 C -0.48994 -0.16204 -0.49827 -0.1713 -0.49827 -0.17107 C -0.5 -0.17454 -0.50296 -0.18102 -0.50556 -0.18311 C -0.5073 -0.18449 -0.50955 -0.18426 -0.51146 -0.18496 C -0.51303 -0.18542 -0.51737 -0.18797 -0.51598 -0.18681 C -0.50764 -0.18033 -0.49966 -0.17616 -0.49098 -0.1713 C -0.46528 -0.17709 -0.46997 -0.17315 -0.48803 -0.17917 C -0.4974 -0.18241 -0.50435 -0.18681 -0.51441 -0.18681 C -0.51685 -0.18681 -0.50955 -0.18565 -0.50712 -0.18496 C -0.49566 -0.17292 -0.48195 -0.16667 -0.46893 -0.15741 C -0.46632 -0.15556 -0.46407 -0.15348 -0.46146 -0.15162 C -0.45955 -0.15023 -0.45348 -0.14723 -0.45556 -0.14769 C -0.4625 -0.14954 -0.46945 -0.15232 -0.47622 -0.15556 C -0.48716 -0.16088 -0.49601 -0.16667 -0.50712 -0.1713 C -0.52205 -0.17732 -0.51632 -0.17523 -0.50261 -0.17315 C -0.4908 -0.1625 -0.47848 -0.15486 -0.46598 -0.14584 C -0.46372 -0.14422 -0.46216 -0.14144 -0.46007 -0.13982 C -0.45869 -0.13889 -0.454 -0.13797 -0.45556 -0.13797 C -0.47518 -0.13797 -0.49601 -0.14676 -0.51441 -0.15556 C -0.52431 -0.17477 -0.48994 -0.16135 -0.48941 -0.16135 C -0.47917 -0.15278 -0.46928 -0.14306 -0.45851 -0.13588 C -0.45504 -0.13357 -0.44948 -0.13172 -0.44671 -0.12801 E">
                                      <p:cBhvr>
                                        <p:cTn id="7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403 0.57083 C 0.58872 0.575 0.59323 0.58125 0.59722 0.58658 C 0.60191 0.59259 0.59826 0.59421 0.60608 0.59838 C 0.61024 0.60046 0.61493 0.60046 0.61927 0.60232 C 0.62083 0.60301 0.62517 0.60509 0.62379 0.60417 C 0.60938 0.59468 0.59566 0.58634 0.58247 0.57477 C 0.58194 0.57292 0.57986 0.57014 0.58108 0.56898 C 0.5842 0.5662 0.59132 0.5757 0.59583 0.5787 C 0.60243 0.5831 0.60955 0.58658 0.61632 0.59051 C 0.61875 0.5919 0.62153 0.59236 0.62379 0.59445 C 0.62517 0.59583 0.62986 0.59861 0.62813 0.59838 C 0.62205 0.59745 0.61632 0.59445 0.61042 0.59236 C 0.60851 0.59167 0.60469 0.59051 0.60469 0.59074 C 0.5941 0.58125 0.59236 0.5838 0.60174 0.58079 C 0.60955 0.58148 0.61736 0.58102 0.62517 0.58264 C 0.62743 0.5831 0.63316 0.5875 0.63108 0.58658 C 0.62222 0.5831 0.61337 0.5794 0.60469 0.57477 C 0.60226 0.57338 0.59965 0.57245 0.59722 0.57083 C 0.5941 0.56852 0.58837 0.56296 0.58837 0.5632 C 0.58837 0.56296 0.5941 0.56852 0.59722 0.57083 C 0.60156 0.57408 0.60625 0.57708 0.61042 0.58079 C 0.625 0.59352 0.61076 0.58495 0.62517 0.59236 C 0.62674 0.59445 0.63177 0.59908 0.62969 0.59838 C 0.6158 0.59445 0.60417 0.5838 0.58993 0.58079 C 0.57639 0.56875 0.58559 0.57685 0.57674 0.56505 E">
                                      <p:cBhvr>
                                        <p:cTn id="7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4"/>
          <p:cNvSpPr/>
          <p:nvPr/>
        </p:nvSpPr>
        <p:spPr>
          <a:xfrm>
            <a:off x="0" y="2214720"/>
            <a:ext cx="942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ermier dans son pr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2448000" y="33336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omic Sans MS"/>
              </a:rPr>
              <a:t>Phonic foc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2411280" y="1560960"/>
            <a:ext cx="648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é, ohé,oh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er dans son pr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934920" y="5661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Which words have th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ay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 sound in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046240" y="642960"/>
            <a:ext cx="3606840" cy="4714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571840" y="564372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fem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835280" y="547560"/>
            <a:ext cx="64800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oh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fermi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r</a:t>
            </a:r>
            <a:r>
              <a:rPr b="1" lang="fr-F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ans son pr</a:t>
            </a:r>
            <a:r>
              <a:rPr b="1" lang="fr-FR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1403280" y="333360"/>
            <a:ext cx="9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724360" y="260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971640" y="3429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oh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1042920" y="177336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pr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5076720" y="184464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fermi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2928960" y="5000760"/>
            <a:ext cx="31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’enf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232152"/>
          <p:cNvPicPr/>
          <p:nvPr/>
        </p:nvPicPr>
        <p:blipFill>
          <a:blip r:embed="rId1"/>
          <a:stretch/>
        </p:blipFill>
        <p:spPr>
          <a:xfrm>
            <a:off x="2357280" y="285840"/>
            <a:ext cx="3972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8"/>
          <p:cNvSpPr/>
          <p:nvPr/>
        </p:nvSpPr>
        <p:spPr>
          <a:xfrm>
            <a:off x="2786040" y="5357880"/>
            <a:ext cx="635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nour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2405890000[1]"/>
          <p:cNvPicPr/>
          <p:nvPr/>
        </p:nvPicPr>
        <p:blipFill>
          <a:blip r:embed="rId1"/>
          <a:stretch/>
        </p:blipFill>
        <p:spPr>
          <a:xfrm>
            <a:off x="2500200" y="428760"/>
            <a:ext cx="442908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2357280" y="1143000"/>
            <a:ext cx="4143600" cy="3678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2928960" y="514368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i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4095720" cy="4724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43200" y="5429160"/>
            <a:ext cx="407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ch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86040" y="714240"/>
            <a:ext cx="3524400" cy="4357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3071880" y="52862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a sour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df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071880" y="857160"/>
            <a:ext cx="3127320" cy="3786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928960" y="5072040"/>
            <a:ext cx="43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le from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5:01:31Z</dcterms:created>
  <dc:creator>ruth moreland</dc:creator>
  <dc:description/>
  <dc:language>en-US</dc:language>
  <cp:lastModifiedBy>P.Seccombe</cp:lastModifiedBy>
  <dcterms:modified xsi:type="dcterms:W3CDTF">2009-09-28T10:34:47Z</dcterms:modified>
  <cp:revision>31</cp:revision>
  <dc:subject/>
  <dc:title>Slide 1</dc:title>
</cp:coreProperties>
</file>